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AAE-B496-4EED-A846-566DA6CA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3D7-67EC-43C4-8B28-FBB68FEC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89B-DE3A-4F1F-BE81-D11A2FF7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203-0CEE-4881-BBD7-B19BA221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016-A301-4BB3-AB9D-90CBC681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B6A-CF98-4789-B9B9-C35F1F20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EE83-36C2-4F2B-80C9-6BDD4DD4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8DA-4E9F-4157-A191-B36113AB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E4EB-F156-4C87-A08F-BE5215D7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D6B-FF71-4212-A060-2088DFA9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545-8A40-49F1-8E1E-2A1CA59F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7FD-5C84-4676-B1EE-BAAE598C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091B-C26D-41B1-81AF-D72F88054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79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Literacy Objectiv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Plural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4941720"/>
            <a:ext cx="201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99"/>
                </a:solidFill>
                <a:latin typeface="Comic Sans MS"/>
              </a:rPr>
              <a:t>Si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M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4724280"/>
            <a:ext cx="230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99"/>
                </a:solidFill>
                <a:latin typeface="Comic Sans MS"/>
              </a:rPr>
              <a:t>Pl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M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2160360" cy="655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03640" y="3213000"/>
            <a:ext cx="1942920" cy="588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987640" y="3860640"/>
            <a:ext cx="1927440" cy="584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003640" y="3500280"/>
            <a:ext cx="1729080" cy="524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788000" y="4005360"/>
            <a:ext cx="186372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765000"/>
            <a:ext cx="79912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omic Sans MS"/>
              </a:rPr>
              <a:t>Your Tas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Look at the following word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For each word, is their plur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Comic Sans MS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Comic Sans MS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Comic Sans MS"/>
              </a:rPr>
              <a:t>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1944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333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Comic Sans MS"/>
              </a:rPr>
              <a:t>d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1773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Comic Sans MS"/>
              </a:rPr>
              <a:t>b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549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pa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59640" y="49417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Comic Sans MS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404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Comic Sans MS"/>
              </a:rPr>
              <a:t>b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51280" y="1916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Comic Sans MS"/>
              </a:rPr>
              <a:t>metap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7640" y="981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jour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429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mic Sans MS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3141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335772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Comic Sans MS"/>
              </a:rPr>
              <a:t>b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3789360"/>
            <a:ext cx="20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66ff"/>
                </a:solidFill>
                <a:latin typeface="Comic Sans MS"/>
              </a:rPr>
              <a:t>w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479736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Comic Sans MS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486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46530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99"/>
                </a:solidFill>
                <a:latin typeface="Comic Sans MS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43640" y="2637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</a:rPr>
              <a:t>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90792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Comic Sans MS"/>
              </a:rPr>
              <a:t>dr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68360" y="98100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pa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56000" y="836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Comic Sans MS"/>
              </a:rPr>
              <a:t>bul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27640" y="141300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journ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227664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Comic Sans MS"/>
              </a:rPr>
              <a:t>bu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16720" y="5516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Comic Sans MS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242100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Comic Sans MS"/>
              </a:rPr>
              <a:t>metaph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31417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</a:rPr>
              <a:t>chu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3500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3860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Comic Sans MS"/>
              </a:rPr>
              <a:t>bab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4221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66ff"/>
                </a:solidFill>
                <a:latin typeface="Comic Sans MS"/>
              </a:rPr>
              <a:t>wi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5084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99"/>
                </a:solidFill>
                <a:latin typeface="Comic Sans MS"/>
              </a:rPr>
              <a:t>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3280" y="54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5300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Comic Sans MS"/>
              </a:rPr>
              <a:t>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393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mic Sans MS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620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But, what would YOU do with th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9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Comic Sans MS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3500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cc"/>
                </a:solidFill>
                <a:latin typeface="Comic Sans MS"/>
              </a:rPr>
              <a:t>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1773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1640" y="3284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go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51640" y="1844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66ff"/>
                </a:solidFill>
                <a:latin typeface="Comic Sans MS"/>
              </a:rPr>
              <a:t>sh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360" y="4653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Comic Sans MS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4869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256536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Comic Sans MS"/>
              </a:rPr>
              <a:t>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23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1640" y="2349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66ff"/>
                </a:solidFill>
                <a:latin typeface="Comic Sans MS"/>
              </a:rPr>
              <a:t>sh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03280" y="4076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cc"/>
                </a:solidFill>
                <a:latin typeface="Comic Sans MS"/>
              </a:rPr>
              <a:t>m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386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ge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5157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Comic Sans MS"/>
              </a:rPr>
              <a:t>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11280" y="5445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4:44:19Z</dcterms:created>
  <dc:creator>Sophie Williams</dc:creator>
  <dc:description/>
  <dc:language>en-US</dc:language>
  <cp:lastModifiedBy>Sophie Williams</cp:lastModifiedBy>
  <dcterms:modified xsi:type="dcterms:W3CDTF">2006-11-09T20:10:23Z</dcterms:modified>
  <cp:revision>2</cp:revision>
  <dc:subject/>
  <dc:title>Slide 1</dc:title>
</cp:coreProperties>
</file>